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8ADC-4F31-41D8-9ACB-51EC66D4E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5BEC-1D13-4413-83CD-8EB4000C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2D53-FDDF-4EFD-992C-32494C66A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930A-AD3A-4568-AB59-F8CD45073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6921-4342-4257-8B17-C68CB54F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D3D0-EF6F-4B6B-8230-50570344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4C8DD-F840-4173-911E-55350C5F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2434-2351-4422-A389-23557E6A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F703-8019-42FF-9502-164D072E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D5E7-0669-4AD3-B7CE-3D8395AF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BAAF-25CA-4191-948B-C6028F24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6E8C-D8AE-449C-B49D-B8B93FE8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98E6-1034-4922-AFBD-FFEB08F0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710A-4793-4580-BDBD-C8BD36ED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8043-4084-4B50-96DE-016CB004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09F3-1186-4CE8-99A6-579A37354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45C7-2FE1-41D2-858F-11FEA6C94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665D-8972-4AF2-BEA5-20D6EF93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D52C-7D9A-4B4D-BC51-FD95AA34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FB7F-D882-4C2E-B458-9C937C0C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D9DF-2427-49C6-8777-8ED955B2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53A9-1E4D-47C4-86CC-E839C49C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F007-CD41-4242-B77F-E538F26F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7317-1196-435B-AE67-FE5C82FF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A7C1-4A44-4816-B06D-8B6B170AF1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1CA6-540C-4B27-924B-7592CFDB1D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144800" y="1905120"/>
            <a:ext cx="5663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009900"/>
                </a:solidFill>
                <a:latin typeface="Times New Roman"/>
              </a:rPr>
              <a:t>Lesson     Seven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009900"/>
                </a:solidFill>
                <a:latin typeface="Times New Roman"/>
              </a:rPr>
              <a:t>Too Lat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387360" y="0"/>
            <a:ext cx="8434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Ques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 was waiting at the airpor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How long were they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What was the parcel full of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was it fr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Why did they think some thieves wou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y to steal the diamond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Where were other detectives wait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 Who took the parcel off the pla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 Where did they carry i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 Who was keeping guard at the do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 Who opened the parce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-379080" y="0"/>
            <a:ext cx="10060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ell the s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lane--- late---detectives--- wai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Expecting--- paecel--- South Afr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Earlier--- told--- police--- thie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 When--- arrived--- some--- main building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others--- airfie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 Two men--- parcel--- carried--- Custo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o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. Two--- guard--- door --- others open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7. Surprise --- parcel--- stones---s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0280" y="152280"/>
            <a:ext cx="8786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ey to summary wri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tectives were waiting at the airport 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rning. They were expecting a valuab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rcel of diamonds from South America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wo men took the parcel into the Custo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use after the arrival of the plane. Tw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tectives opened it. The parcel was full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ones and san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52560" y="304920"/>
            <a:ext cx="4108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xpect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期待，盼望 常用于进行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我们在等她的信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我在盼望约翰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43480" y="1219320"/>
            <a:ext cx="572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We were expecting a letter from 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92720" y="2057400"/>
            <a:ext cx="354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I’m expecting John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9920" y="2514600"/>
            <a:ext cx="399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xpect  sb  to do sth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预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我预料他考试通不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我们没料到会有这么多人来参加会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40960" y="3276720"/>
            <a:ext cx="599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I expected him to fail the examin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4267080"/>
            <a:ext cx="886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We weren’t expecting so many people to 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to the par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70200" y="828720"/>
            <a:ext cx="4866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eep /stand guar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站岗，放哨，警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他们在给这所房子放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士兵们对囚犯严加防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将军的帐篷周围有士兵警戒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2160" y="1676520"/>
            <a:ext cx="601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They are keping guard over the ho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77400" y="2505240"/>
            <a:ext cx="624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The soldiers kept a close guard on the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prison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4320" y="3886200"/>
            <a:ext cx="702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There were soldiers standing guard roud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general’s t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857160"/>
            <a:ext cx="7979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o  + one’s  +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情感名词，表示满意“使某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感到） …的是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o one’s joy /surprise /sadness /deligh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o my great surprise, we w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o the surprise of everyone, his pl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ucc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To his great joy, he passed the exam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2320" y="177840"/>
            <a:ext cx="91846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过去进行时： 用来表示过去某个时刻正在进行的行为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，这动作通常要持续一段时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常与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when,while, or as 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连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). When /While /As I was watering the garden, it bega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).Someone knocked at my door when I was having a ba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2.when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可引导两个句中的任何一个，而其他两者却不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ohn arrived when I was cooking lun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en John arrived, I was cooking lun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3.while 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引出两个同时进行，持续世间较长的两个平行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ile Tom was reading, his wife was listening to the mus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om was reading while his wife was listening to the mus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5T11:36:53Z</dcterms:created>
  <dc:creator/>
  <dc:description/>
  <dc:language>en-US</dc:language>
  <cp:lastModifiedBy>tyz</cp:lastModifiedBy>
  <dcterms:modified xsi:type="dcterms:W3CDTF">2003-04-05T03:43:32Z</dcterms:modified>
  <cp:revision>9</cp:revision>
  <dc:subject/>
  <dc:title>PowerPoint 演示文稿</dc:title>
</cp:coreProperties>
</file>